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F3C2-F220-4F25-8CD8-1C97D95F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5D93-1B09-4C88-B9E8-946671866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Title Slide.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94C-4EE0-44C4-87B7-C3F8D2D6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9C5-AEF0-4560-8162-3C07BC1D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47D-00C9-4162-A4B5-161EE805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488-6D69-442F-AAF6-1EBF0201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DF29-ED1B-408B-9348-D3ECBBDB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7EC8-4DFE-467E-8FDF-F8848FB3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D830-77E5-4237-B398-77E28405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CE14-FEB7-406C-AB45-5F90438B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2C64-C820-47BF-B0D4-C5900D92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4617-C51D-4592-A499-8305460A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C80C-6BA4-439B-8D5B-0E3A776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D35-1E52-4738-94A9-5B200BF8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F724-3966-437C-B885-8D594851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9FA9-34BA-45F7-887D-846B94D3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A4BB-7BBC-4C80-94BB-80E2B7EA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2973-9CE0-4B41-AF07-4FAE13A3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1BFB-0396-4F83-A6D1-199E1C6F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562-6AE5-4685-82CD-1D3A84D8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AE3-FB72-4A21-91E1-242C92CF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C9E-CBD1-4198-BD88-3BCC48AD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684-2A75-4D64-8387-70BB8EFC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E5E-828F-4DDE-B6A3-EBA9803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22B-BD74-48F0-B891-3177620E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35A-F3B2-48EF-9196-32F558B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7F91-250E-44D9-9F63-E03CD72A1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301F-76AD-4CAE-B5BA-D4ED696FCC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 2003 Exerci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mputer Education Instit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Against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of key financial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spending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enue and Prof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cast vs ac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ss mar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tr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company to rest of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multiple slides to break out meaningful det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Spending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&amp;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es and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and adminis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of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needing attention/ca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es and 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dco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e want to see our count 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 10 companies vying for t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ant 40 compa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leg work needs to be d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for Next Peri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undertak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key eff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key successes/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terate key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of Key Objecti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&amp; Critical Success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company u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company success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d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key undertakings of past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id W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ef overview of performance against each 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3886200" y="3048120"/>
            <a:ext cx="4191120" cy="2971800"/>
          </a:xfrm>
          <a:prstGeom prst="irregularSeal1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the slide to dele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chec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LUCK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al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and broad goals of each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 chart might be effectiv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Issues Facing Compa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 any high profile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of Prior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21:16:47Z</dcterms:created>
  <dc:creator>Angie Anglin</dc:creator>
  <dc:description/>
  <dc:language>en-US</dc:language>
  <cp:lastModifiedBy>joe</cp:lastModifiedBy>
  <dcterms:modified xsi:type="dcterms:W3CDTF">2008-10-30T16:52:14Z</dcterms:modified>
  <cp:revision>24</cp:revision>
  <dc:subject/>
  <dc:title>PowerPoint 2000 Practice Exam</dc:title>
</cp:coreProperties>
</file>